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Blade%20runner.wav" ContentType="audio/x-wav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4D0-2832-4D1D-A0C5-F19937AF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93F-ED05-4077-B1EB-0E13AFB7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870-CFCE-4838-8B84-100C7D85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DA2-8921-46AE-A503-5138BD2D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0B4-B995-4F7C-8BED-88B127CD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E3B-D2D8-48BE-98B1-F9643DC9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8D5-ECC8-4884-A7F5-8F60F5A5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C60-7E49-4A4C-9AA1-AFBB4B5B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E87-9617-431E-9946-ABD7A1D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DB6-D8C9-46F6-8686-E4F05AC0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24C-D3A2-404F-9345-D4FD412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6C0-6A86-4212-9A55-1ABAABC9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53ED-0B21-4387-BECA-CF170D95EC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lade%20runne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32000" y="836640"/>
            <a:ext cx="291492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n peu</a:t>
            </a:r>
            <a:endParaRPr b="1" i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'</a:t>
            </a:r>
            <a:endParaRPr b="1" i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2852640"/>
            <a:ext cx="655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tronomíe</a:t>
            </a:r>
            <a:endParaRPr b="1" i="1" lang="en-US" sz="9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936720" cy="439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La Nebulosa Ojo de gato: Morir Estrellas Crea Fantasía-como la escultura de gas y polvo"/>
          <p:cNvPicPr/>
          <p:nvPr/>
        </p:nvPicPr>
        <p:blipFill>
          <a:blip r:embed="rId1"/>
          <a:stretch/>
        </p:blipFill>
        <p:spPr>
          <a:xfrm>
            <a:off x="755640" y="189000"/>
            <a:ext cx="7738920" cy="5803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52480" y="59425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rebuchet MS"/>
              </a:rPr>
              <a:t>En quatrième lieu, on peut reconnaître l’impressionnante Nébuleuse de l’OEil de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[Nebulosa+Hourglass.bmp]"/>
          <p:cNvPicPr/>
          <p:nvPr/>
        </p:nvPicPr>
        <p:blipFill>
          <a:blip r:embed="rId1"/>
          <a:stretch/>
        </p:blipFill>
        <p:spPr>
          <a:xfrm>
            <a:off x="2484360" y="189000"/>
            <a:ext cx="405936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659920"/>
            <a:ext cx="749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rebuchet MS"/>
              </a:rPr>
              <a:t>En cinquième lieu, voici la Nébuleuse du Sablier située à 8000 années-lumière, une magnifique nébuleuse avec un rétrécissement dans sa partie centrale</a:t>
            </a:r>
            <a:r>
              <a:rPr b="1" lang="es-ES" sz="20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Nebulosa del Cono (NGC 2264): Star-Forming pilar de gas y polvo"/>
          <p:cNvPicPr/>
          <p:nvPr/>
        </p:nvPicPr>
        <p:blipFill>
          <a:blip r:embed="rId1"/>
          <a:stretch/>
        </p:blipFill>
        <p:spPr>
          <a:xfrm>
            <a:off x="684360" y="189000"/>
            <a:ext cx="7956360" cy="5967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7040" y="6323760"/>
            <a:ext cx="90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rebuchet MS"/>
              </a:rPr>
              <a:t>  </a:t>
            </a:r>
            <a:r>
              <a:rPr b="1" i="1" lang="es-ES" sz="2000" spc="-1" strike="noStrike">
                <a:solidFill>
                  <a:srgbClr val="ffff00"/>
                </a:solidFill>
                <a:latin typeface="Trebuchet MS"/>
              </a:rPr>
              <a:t>En sixième lieu nous voyons  la Nébuleuse du Cône, à 2.5 années-lum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[Nebulosa+del+cisne.bmp]"/>
          <p:cNvPicPr/>
          <p:nvPr/>
        </p:nvPicPr>
        <p:blipFill>
          <a:blip r:embed="rId1"/>
          <a:stretch/>
        </p:blipFill>
        <p:spPr>
          <a:xfrm>
            <a:off x="1116000" y="189000"/>
            <a:ext cx="6913440" cy="515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5372640"/>
            <a:ext cx="803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rebuchet MS"/>
              </a:rPr>
              <a:t>En septième lieu, nous rencontrons un fragment  de la Nébuleuse du Cygne située à 5500 années-lumières de distance, décrite comme " un bouillonnant océan  d’hydrogène avec de petites quantités d’oxygène, de soufre et autres élémen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[Noche+estrellada]"/>
          <p:cNvPicPr/>
          <p:nvPr/>
        </p:nvPicPr>
        <p:blipFill>
          <a:blip r:embed="rId1"/>
          <a:stretch/>
        </p:blipFill>
        <p:spPr>
          <a:xfrm>
            <a:off x="1258920" y="189000"/>
            <a:ext cx="6624720" cy="5905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1040" y="6236280"/>
            <a:ext cx="75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rebuchet MS"/>
              </a:rPr>
              <a:t>En huitième lieu une magnifique photo appelée "Nuit étoilé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[NGC+2207+e+IC+2163.bmp]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4141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580428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rebuchet MS"/>
              </a:rPr>
              <a:t>En neuvième lieu, deux galaxies tourbillonnantes, la NGC 2207 et  la IC 2163 situées à 114 millions d’années-lumiè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[Nebulosa+Trifida.bmp]"/>
          <p:cNvPicPr/>
          <p:nvPr/>
        </p:nvPicPr>
        <p:blipFill>
          <a:blip r:embed="rId1"/>
          <a:stretch/>
        </p:blipFill>
        <p:spPr>
          <a:xfrm>
            <a:off x="1332000" y="189000"/>
            <a:ext cx="6553080" cy="5637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5949000"/>
            <a:ext cx="74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rebuchet MS"/>
              </a:rPr>
              <a:t>En dixième lieu, nous voyons  un fragment  de la Nébuleuse Trífide, un berceau stellaire à 9000 années-lumiè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69360" y="0"/>
            <a:ext cx="646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rebuchet MS"/>
              </a:rPr>
              <a:t>Autres photos de Hub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37320" cy="5873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492120"/>
            <a:ext cx="9144000" cy="7350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9480" y="6307920"/>
            <a:ext cx="24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a Sonde Voyager 1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5080" y="6236640"/>
            <a:ext cx="46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Situation actuelle de Voyager 1 (102 A-U)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0000" y="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52360" y="-64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5280" y="189000"/>
            <a:ext cx="273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rebuchet MS"/>
              </a:rPr>
              <a:t>Hub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Blade%20runner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98160" cy="6959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78720" y="6247800"/>
            <a:ext cx="40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a planète naine 2003 UB 313 (E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612720" y="-12600"/>
            <a:ext cx="10153440" cy="6999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32000" y="26028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17320" y="616680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rebuchet MS"/>
              </a:rPr>
              <a:t>La comète de Hal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541440" y="-31680"/>
            <a:ext cx="10226880" cy="691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51880" y="616500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16: Nébuleuse de l’Aigle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96720" y="-12600"/>
            <a:ext cx="10153440" cy="699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23440" y="630792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57: Nébuleuse de l’Anneau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47160" y="623664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Nébuleuse RCW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468360" y="-46080"/>
            <a:ext cx="10080720" cy="694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40960" y="6165000"/>
            <a:ext cx="41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NGC 2237: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ébuleuse de la Rosette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98160" cy="6961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636000" y="616500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42: Nébuleuse d’O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2800" y="6236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oto-ét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93744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11440" y="623664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Voie Lactée (la marque rouge indique notre Soleil)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96720" y="-46080"/>
            <a:ext cx="10009080" cy="6900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14640" y="623664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rou noir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612720" y="-31680"/>
            <a:ext cx="10298160" cy="695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427680"/>
            <a:ext cx="8420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Le télescope spatial Hubble est un téléscope robotisé placé sur le bord extérieur de l’atmosphère, en orbite circulaire autour de la Terre à 593 Km au-dessus du niveau de la mer, avec une période orbitale entre 96 et 97 minutes et à une vitesse de 28000 km/h. Dénommé ainsi en hommage à Edwin Hubble, il a été mis en orbite le 24 avril 1990 comme projet conjoint de la NASA et de l’ESA, inaugurant ainsi le programme des Grands Observato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De forme cylindrique Hubble pèse 11 tonnes. Sa longueur est de 13,2 m et son diamètre maximum est de 4,2 mè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Le téléscope peut obtenir des images d’une résolution optique supérie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à 0,1 seconde d’arc.</a:t>
            </a:r>
            <a:r>
              <a:rPr b="1" lang="fr-FR" sz="2400" spc="-1" strike="noStrike">
                <a:solidFill>
                  <a:srgbClr val="9933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468360" y="3240"/>
            <a:ext cx="10009080" cy="6900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53800" y="6236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GC 4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468360" y="-27000"/>
            <a:ext cx="10153800" cy="6961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120" y="616500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a Terre avec des nuag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468360" y="-27000"/>
            <a:ext cx="10153800" cy="6961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60" y="609228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a Terre sans nuag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153800" cy="696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-70920" y="6236640"/>
            <a:ext cx="37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a Terre avec la lune croissante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468360" y="-27000"/>
            <a:ext cx="10153800" cy="696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191880" y="616500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a Terre avec la Nouvelle L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468360" y="-27000"/>
            <a:ext cx="10153800" cy="696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24480" y="6092280"/>
            <a:ext cx="33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a Terre avec la Pleine Lune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7120" y="632376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Le Soleil avec l’atmosph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468360" y="-27000"/>
            <a:ext cx="10080720" cy="691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920" y="61650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Le Soleil sans atmosph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153800" cy="6961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3240" y="6092280"/>
            <a:ext cx="23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Venus sans nuag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468360" y="-27000"/>
            <a:ext cx="10153800" cy="696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1320" y="6165000"/>
            <a:ext cx="23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Venus avec nuag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7200" y="630792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a station spatiale internationale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153800" cy="696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5960" y="6236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er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98160" cy="6961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5960" y="61650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279360" y="62366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hobos et Deimos en orbite autour de M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9800" y="6165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381240" y="6323760"/>
            <a:ext cx="625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es 8 plus proches satellites en orbite autour de 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6640" y="6165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Satu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456840" y="623664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es satellites en orbite autour de Saturne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98160" cy="6959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2440" y="6092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-298080" y="6236640"/>
            <a:ext cx="45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es satellites en orbite autour d’Uranu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03200" y="6236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612720" y="-9360"/>
            <a:ext cx="10225080" cy="690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35280" y="18900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rebuchet MS"/>
              </a:rPr>
              <a:t>Vue depuis l’intérieur du vais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98160" cy="695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-455760" y="6490440"/>
            <a:ext cx="67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es satellites en orbite autour de Neptune  (excepté Nére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98160" cy="6959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71640" y="6247800"/>
            <a:ext cx="51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Néréide et Triton en orbite autour de Neptune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26880" cy="691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9080" y="6236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lu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360880" y="6490440"/>
            <a:ext cx="39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haron en orbite autour de Pluton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541440" y="-27000"/>
            <a:ext cx="10298160" cy="695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5240" y="62366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La Voie Lactée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-11556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463104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Les paroles sont inutiles quand nous sommes confrontés à de tels monuments de lumière et de coul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Nous pouvons rencontrer la Nébuleuse de l’Aigle ou M16 dans la Constellation du Serpent : c’est une fenêtre ouverte au milieu de la nuit étoilée. A l’intérieur, des grappes de jeunes étoiles sont en plein processus de création, créant un formidable spectacle d’émissions gaze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700360" y="1197000"/>
            <a:ext cx="381636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n?</a:t>
            </a:r>
            <a:endParaRPr b="1" i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3962520"/>
            <a:ext cx="86104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i sait?...je suis sûr que non.</a:t>
            </a:r>
            <a:endParaRPr b="1" i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5805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Monotype Corsiva"/>
              </a:rPr>
              <a:t>Thème musical:  BO de “Blade Runner”                                                               LMG                                                                                          Décembr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68360" y="18900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rebuchet MS"/>
              </a:rPr>
              <a:t>Hub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04844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La majestuosa galaxia Sombrero (M104)"/>
          <p:cNvPicPr/>
          <p:nvPr/>
        </p:nvPicPr>
        <p:blipFill>
          <a:blip r:embed="rId1"/>
          <a:stretch/>
        </p:blipFill>
        <p:spPr>
          <a:xfrm>
            <a:off x="900000" y="189000"/>
            <a:ext cx="7309080" cy="54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9640" y="5563080"/>
            <a:ext cx="835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Tout d’abord nous voyons la Galaxie du Chapeau, aussi dénommée M 104 dans le catalogue Messier, distante d’environ 28 millions d’années-lumière : elle est considérée comme la meilleure photographie prise par Hubble</a:t>
            </a:r>
            <a:r>
              <a:rPr b="1" i="1" lang="fr-FR" sz="20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8900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rebuchet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260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[Nebulosa+de+la+hormiga.bmp]"/>
          <p:cNvPicPr/>
          <p:nvPr/>
        </p:nvPicPr>
        <p:blipFill>
          <a:blip r:embed="rId1"/>
          <a:stretch/>
        </p:blipFill>
        <p:spPr>
          <a:xfrm>
            <a:off x="755640" y="404640"/>
            <a:ext cx="7632720" cy="49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566784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Voici maintenant la fameuse nébuleuse MZ3 , dénommée la Fourmi, située entre 3000 et 6000 années-lumière</a:t>
            </a:r>
            <a:r>
              <a:rPr b="1" i="1" lang="fr-FR" sz="20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[Nebulosa+NGC+2392+(Esquimal).bmp]"/>
          <p:cNvPicPr/>
          <p:nvPr/>
        </p:nvPicPr>
        <p:blipFill>
          <a:blip r:embed="rId1"/>
          <a:stretch/>
        </p:blipFill>
        <p:spPr>
          <a:xfrm>
            <a:off x="1547640" y="260280"/>
            <a:ext cx="6194520" cy="5538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579636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Arial"/>
                <a:ea typeface="Arial"/>
              </a:rPr>
              <a:t>En troisième lieu apparaît la Nébuleuse de l’Esquimau NGC 2392 située à 5000 années-lum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2:00:47Z</dcterms:created>
  <dc:creator>luis martinez</dc:creator>
  <dc:description/>
  <dc:language>en-US</dc:language>
  <cp:lastModifiedBy>**</cp:lastModifiedBy>
  <dcterms:modified xsi:type="dcterms:W3CDTF">2009-02-07T16:18:05Z</dcterms:modified>
  <cp:revision>15</cp:revision>
  <dc:subject/>
  <dc:title>Diapositiva 1</dc:title>
</cp:coreProperties>
</file>